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D0BF-0B35-4033-84D7-1A0871B6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8E20-2B43-4FD6-AC46-52BC594F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9161-18D1-47AC-948C-B9A238D36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FAB4-962A-4899-A90F-F05DCD326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D20E-8ABC-4CF1-9236-2A9520E5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5C81-C373-4CB9-961E-5D9FE8CA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5B43-423F-4D85-A879-14DF53FF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840F-07D5-4182-BBFB-C8BC7ABA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8E74-8AF1-4C6A-BC3D-1E2FE6A1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6FB2-6578-48C2-BA8E-F1AB70AE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5C71-DAF5-4D23-A0D2-981B9C15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BAB7-049D-4B7E-AC26-7D4EBDB4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ADAD-AB6F-48E6-91D2-F67A93F6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5C99-6B1E-4D3F-AF5F-6097F72C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D8B9-E503-4481-84B1-DDC9861B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3BA6-A469-409B-9454-F21D6BDCD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5370-CF41-4F8A-A3DE-43CCCB1E6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6888-DCF6-4558-B01D-9AAF1E16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2B1D-4516-47F1-842E-8F986E1E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697E-555B-427B-8F04-F8AB87FD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BDF8-0EF9-49E0-AD63-CBAA97BC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A88C-4D6C-4515-9D21-2FBAFA37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989F-05CB-447D-ABCF-971D7477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63FD-CF34-443B-92A2-90FF4C9D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D09F-507B-4BEF-92F2-B5B250D436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7C54-6F6E-44D4-8948-6EC3E5D90C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66"/>
                </a:solidFill>
                <a:latin typeface="Lucida Sans Unicode"/>
              </a:rPr>
              <a:t>METODOLOGIA PARA COLETA E ANÁLISE DE INFORMAÇÕES SOBRE CONSUMOS E PERDAS DE MATERIAIS E COMPONENTES NOS CANTEIROS DE OBRA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José Carlos Paliar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Orienta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Ubiraci Espinelli Lemes de Sou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FUNDAMENTOS DA METODOLOGIA</a:t>
            </a:r>
            <a:br>
              <a:rPr sz="2800"/>
            </a:br>
            <a:r>
              <a:rPr b="1" lang="pt-BR" sz="2400" spc="-1" strike="noStrike">
                <a:solidFill>
                  <a:srgbClr val="00cc66"/>
                </a:solidFill>
                <a:latin typeface="Lucida Sans Unicode"/>
              </a:rPr>
              <a:t>fluxograma dos processos e natureza das perdas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28812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FUNDAMENTOS DA METODOLOGIA</a:t>
            </a:r>
            <a:br>
              <a:rPr sz="2800"/>
            </a:br>
            <a:r>
              <a:rPr b="1" lang="pt-BR" sz="2800" spc="-1" strike="noStrike">
                <a:solidFill>
                  <a:srgbClr val="00cc66"/>
                </a:solidFill>
                <a:latin typeface="Lucida Sans Unicode"/>
              </a:rPr>
              <a:t>indicadores de perdas/consumo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638680" cy="48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METODOLOGIA</a:t>
            </a:r>
            <a:br>
              <a:rPr sz="2800"/>
            </a:br>
            <a:r>
              <a:rPr b="1" lang="pt-BR" sz="2800" spc="-1" strike="noStrike">
                <a:solidFill>
                  <a:srgbClr val="00cc66"/>
                </a:solidFill>
                <a:latin typeface="Lucida Sans Unicode"/>
              </a:rPr>
              <a:t>apresentação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65180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METODOLOGIA</a:t>
            </a:r>
            <a:br>
              <a:rPr sz="2800"/>
            </a:br>
            <a:r>
              <a:rPr b="1" lang="pt-BR" sz="2800" spc="-1" strike="noStrike">
                <a:solidFill>
                  <a:srgbClr val="00cc66"/>
                </a:solidFill>
                <a:latin typeface="Lucida Sans Unicode"/>
              </a:rPr>
              <a:t>instrumentos de colet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Lucida Sans Unicode"/>
              </a:rPr>
              <a:t>INFORMAÇÕES QUALITATIV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Lucida Sans Unicode"/>
              </a:rPr>
              <a:t>SÉRIE 1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: empresa/ob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Lucida Sans Unicode"/>
              </a:rPr>
              <a:t>SÉRIE 5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:  etapas do fluxograma dos processos até a     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estocag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Lucida Sans Unicode"/>
              </a:rPr>
              <a:t>SÉRIE 6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: etapas do fluxograma dos processos pós-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estocag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Lucida Sans Unicode"/>
              </a:rPr>
              <a:t>INFORMAÇÕES QUANTITATIV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Lucida Sans Unicode"/>
              </a:rPr>
              <a:t>SÉRIE 2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: medição dos estoques nas datas VI e V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Lucida Sans Unicode"/>
              </a:rPr>
              <a:t>SÉRIE 3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: medição dos serviços nas datas VI e V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Lucida Sans Unicode"/>
              </a:rPr>
              <a:t>SÉRIE 4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: quantidade de material recebido/transferido 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entre VI e V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Lucida Sans Unicode"/>
              </a:rPr>
              <a:t>SÉRIE 7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: indicadores globais e parci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METODOLOGIA</a:t>
            </a:r>
            <a:br>
              <a:rPr sz="2800"/>
            </a:br>
            <a:r>
              <a:rPr b="1" lang="pt-BR" sz="2800" spc="-1" strike="noStrike">
                <a:solidFill>
                  <a:srgbClr val="00cc66"/>
                </a:solidFill>
                <a:latin typeface="Lucida Sans Unicode"/>
              </a:rPr>
              <a:t>instrumentos de coleta - </a:t>
            </a:r>
            <a:r>
              <a:rPr b="1" lang="pt-BR" sz="2000" spc="-1" strike="noStrike">
                <a:solidFill>
                  <a:srgbClr val="00cc66"/>
                </a:solidFill>
                <a:latin typeface="Lucida Sans Unicode"/>
              </a:rPr>
              <a:t>PLANILHAS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6248520" cy="38181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METODOLOGIA</a:t>
            </a:r>
            <a:br>
              <a:rPr sz="2800"/>
            </a:br>
            <a:r>
              <a:rPr b="1" lang="pt-BR" sz="2800" spc="-1" strike="noStrike">
                <a:solidFill>
                  <a:srgbClr val="00cc66"/>
                </a:solidFill>
                <a:latin typeface="Lucida Sans Unicode"/>
              </a:rPr>
              <a:t>instrumentos de coleta - </a:t>
            </a:r>
            <a:r>
              <a:rPr b="1" lang="pt-BR" sz="2000" spc="-1" strike="noStrike">
                <a:solidFill>
                  <a:srgbClr val="00cc66"/>
                </a:solidFill>
                <a:latin typeface="Lucida Sans Unicode"/>
              </a:rPr>
              <a:t>procedimentos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4267440" cy="40654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029200" y="2057400"/>
            <a:ext cx="36702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METODOLOGIA</a:t>
            </a:r>
            <a:br>
              <a:rPr sz="2800"/>
            </a:br>
            <a:r>
              <a:rPr b="1" lang="pt-BR" sz="2800" spc="-1" strike="noStrike">
                <a:solidFill>
                  <a:srgbClr val="00cc66"/>
                </a:solidFill>
                <a:latin typeface="Lucida Sans Unicode"/>
              </a:rPr>
              <a:t>processamento dos dado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400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METODOLOGIA</a:t>
            </a:r>
            <a:br>
              <a:rPr sz="2800"/>
            </a:br>
            <a:r>
              <a:rPr b="1" lang="pt-BR" sz="2800" spc="-1" strike="noStrike">
                <a:solidFill>
                  <a:srgbClr val="00cc66"/>
                </a:solidFill>
                <a:latin typeface="Lucida Sans Unicode"/>
              </a:rPr>
              <a:t>processamento dos dado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7772400" cy="32749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METODOLOGIA</a:t>
            </a:r>
            <a:br>
              <a:rPr sz="2800"/>
            </a:br>
            <a:r>
              <a:rPr b="1" lang="pt-BR" sz="2800" spc="-1" strike="noStrike">
                <a:solidFill>
                  <a:srgbClr val="00cc66"/>
                </a:solidFill>
                <a:latin typeface="Lucida Sans Unicode"/>
              </a:rPr>
              <a:t>análise dos resultado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Sans Unicode"/>
              </a:rPr>
              <a:t>ÂMBITO DO CANTEIRO DE OBR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Indicadores globai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=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indicadores parcia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 “</a:t>
            </a: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+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ocorrências anorma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Sans Unicode"/>
              </a:rPr>
              <a:t>ENTRE CANTEIROS DE OBR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identificar quais aspectos são significativos para a ocorrência de perd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parcela incorporada x entul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estatísticas: média, mediana, mínimo, máxi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METODOLOGIA</a:t>
            </a:r>
            <a:br>
              <a:rPr sz="2800"/>
            </a:br>
            <a:r>
              <a:rPr b="1" lang="pt-BR" sz="2800" spc="-1" strike="noStrike">
                <a:solidFill>
                  <a:srgbClr val="00cc66"/>
                </a:solidFill>
                <a:latin typeface="Lucida Sans Unicode"/>
              </a:rPr>
              <a:t>análise dos resultado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4729320" cy="48006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CONTEXTO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 Sans Unicode"/>
              </a:rPr>
              <a:t>Parte integrante de uma ampla pesquisa sobre a quest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pesquisadores de 16 universid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12 estados brasilei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 Sans Unicode"/>
              </a:rPr>
              <a:t>Grupo de Ensino e Pesquisa em Tecnologia e Gestão da Produção (TG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85440" y="144792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METODOLOGIA</a:t>
            </a:r>
            <a:br>
              <a:rPr sz="2800"/>
            </a:br>
            <a:r>
              <a:rPr b="1" lang="pt-BR" sz="2800" spc="-1" strike="noStrike">
                <a:solidFill>
                  <a:srgbClr val="00cc66"/>
                </a:solidFill>
                <a:latin typeface="Lucida Sans Unicode"/>
              </a:rPr>
              <a:t>planejamento da pesquis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Lucida Sans Unicode"/>
              </a:rPr>
              <a:t>comprometimento da empre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organização dos esto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controle de saída dos materi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Lucida Sans Unicode"/>
              </a:rPr>
              <a:t>pré-tes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Lucida Sans Unicode"/>
              </a:rPr>
              <a:t>escolha das datas VI e V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coincidir com início e fim dos serviços e/ou início e fim do esto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particularidades (armação-aço, pintura-tintas, instalações elétricas-condut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METODOLOGIA EMPREGADA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3675240" cy="28954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181480" y="2743200"/>
            <a:ext cx="342900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 Sans Unicode"/>
              </a:rPr>
              <a:t>Metodologia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 Sans Unicode"/>
              </a:rPr>
              <a:t>teste em ca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 Sans Unicode"/>
              </a:rPr>
              <a:t>metodologia fi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276720"/>
            <a:ext cx="1066680" cy="10666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ESTRUTURA DA DISSERTAÇÃO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Lucida Sans Unicode"/>
              </a:rPr>
              <a:t>1 Introduçã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justifica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Lucida Sans Unicode"/>
              </a:rPr>
              <a:t>2 Dimensão do conceito de perd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Concei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Classificaçõ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Lucida Sans Unicode"/>
              </a:rPr>
              <a:t>3 Principais pesquisas realizad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Lucida Sans Unicode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Metodologia empreg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Principais resultados e conclusõ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Lucida Sans Unicode"/>
              </a:rPr>
              <a:t>4 Identificando e mensurando as perd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Fluxograma dos proces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Indicadores de perd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Lucida Sans Unicode"/>
              </a:rPr>
              <a:t>5 Metodologia de coleta e análi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Instrumentos de cole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Coleta, processamento e análi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Lucida Sans Unicode"/>
              </a:rPr>
              <a:t>Planejamento da cole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Lucida Sans Unicode"/>
              </a:rPr>
              <a:t>6 Considerações fina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CRONOGRAMA PARA A FINALIZAÇÃO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2392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JUSTIFICATIV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 Sans Unicode"/>
              </a:rPr>
              <a:t>competitiv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 Sans Unicode"/>
              </a:rPr>
              <a:t>escassez recursos natur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 Sans Unicode"/>
              </a:rPr>
              <a:t>deposição de entul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 Sans Unicode"/>
              </a:rPr>
              <a:t>ênfase nos resultados e não na metodolog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85440" y="144792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66"/>
                </a:solidFill>
                <a:latin typeface="Lucida Sans Unicode"/>
              </a:rPr>
              <a:t>CAMINHO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685440" y="144792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52880" y="2438280"/>
            <a:ext cx="396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Lucida Sans Unicode"/>
              </a:rPr>
              <a:t>Principais idéias/caminhos para o desenvolvimento da metodolog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1922400"/>
            <a:ext cx="4211640" cy="49356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rot="14341200">
            <a:off x="4000320" y="2628360"/>
            <a:ext cx="533520" cy="1523880"/>
          </a:xfrm>
          <a:custGeom>
            <a:avLst/>
            <a:gdLst>
              <a:gd name="textAreaLeft" fmla="*/ 71280 w 533520"/>
              <a:gd name="textAreaRight" fmla="*/ 462240 w 533520"/>
              <a:gd name="textAreaTop" fmla="*/ 266400 h 1523880"/>
              <a:gd name="textAreaBottom" fmla="*/ 11048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66"/>
                </a:solidFill>
                <a:latin typeface="Lucida Sans Unicode"/>
              </a:rPr>
              <a:t>AVALIAÇÃO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Lucida Sans Unicode"/>
              </a:rPr>
              <a:t>procedimentos específicos de coleta, processamento e análise dos d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visão analítica da determinação do referencial teór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Lucida Sans Unicode"/>
              </a:rPr>
              <a:t>flexibilização na adoção deste referen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252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Lucida Sans Unicode"/>
              </a:rPr>
              <a:t>ênfase em indicadores de consum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ênfase em indicadores de perdas/consumos por serviç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Lucida Sans Unicode"/>
              </a:rPr>
              <a:t>estudos pós-estocag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padronização: materiais e serviç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85440" y="144792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66"/>
                </a:solidFill>
                <a:latin typeface="Lucida Sans Unicode"/>
              </a:rPr>
              <a:t>MATERIAI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Are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cim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ped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concreto produzido em ob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concreto usin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argamassa produzida em ob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aç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Blocos</a:t>
            </a: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 e tijol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Sans Unicode"/>
              </a:rPr>
              <a:t>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argamassa parcial ou totalmente produzida fora do cantei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5252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66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6600"/>
                </a:solidFill>
                <a:latin typeface="Lucida Sans Unicode"/>
              </a:rPr>
              <a:t>eletrodu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66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6600"/>
                </a:solidFill>
                <a:latin typeface="Lucida Sans Unicode"/>
              </a:rPr>
              <a:t>conduto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tubos para instalações hidrossanitári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placas cerâm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66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6600"/>
                </a:solidFill>
                <a:latin typeface="Lucida Sans Unicode"/>
              </a:rPr>
              <a:t>tin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66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6600"/>
                </a:solidFill>
                <a:latin typeface="Lucida Sans Unicode"/>
              </a:rPr>
              <a:t>tel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66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6600"/>
                </a:solidFill>
                <a:latin typeface="Lucida Sans Unicode"/>
              </a:rPr>
              <a:t>revestimento têxt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66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6600"/>
                </a:solidFill>
                <a:latin typeface="Lucida Sans Unicode"/>
              </a:rPr>
              <a:t>saib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66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6600"/>
                </a:solidFill>
                <a:latin typeface="Lucida Sans Unicode"/>
              </a:rPr>
              <a:t>ges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85440" y="144792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OBJETIVO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Lucida Sans Unicode"/>
              </a:rPr>
              <a:t>Elaborar metodologia padronizada e sistematizada para a coleta e análise de informações sobre consumos e/ou perdas de materiais e component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instrumentos de coleta de d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procedimentos de coleta de d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933920" indent="-21456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Lucida Sans Unicode"/>
              </a:rPr>
              <a:t>levantar indicadores globais e parcia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33920" indent="-21456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Lucida Sans Unicode"/>
              </a:rPr>
              <a:t>identificação das etapas onde há a maior incidência de perdas, assim </a:t>
            </a:r>
            <a:r>
              <a:rPr b="0" lang="pt-BR" sz="12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Lucida Sans Unicode"/>
              </a:rPr>
              <a:t>como suas caus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33920" indent="-21456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Lucida Sans Unicode"/>
              </a:rPr>
              <a:t>caracterização de materiais e serviç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Lucida Sans Unicode"/>
              </a:rPr>
              <a:t>diretrizes para: processamento e anális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685440" y="144792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52480" y="4114800"/>
            <a:ext cx="71280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FUNDAMENTOS DA METODOLOGIA</a:t>
            </a:r>
            <a:br>
              <a:rPr sz="2800"/>
            </a:br>
            <a:r>
              <a:rPr b="1" lang="pt-BR" sz="2800" spc="-1" strike="noStrike">
                <a:solidFill>
                  <a:srgbClr val="00cc66"/>
                </a:solidFill>
                <a:latin typeface="Lucida Sans Unicode"/>
              </a:rPr>
              <a:t>conceito de perdas/natureza das perda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467480" cy="46594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57200" y="2286000"/>
            <a:ext cx="3657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Sans Unicode"/>
              </a:rPr>
              <a:t>Diferença percentual entre a quantidade recebida / transferida e a quantidade teoricamente prevista tomando-se como base o projeto </a:t>
            </a:r>
            <a:r>
              <a:rPr b="0" i="1" lang="pt-BR" sz="1800" spc="-1" strike="noStrike">
                <a:solidFill>
                  <a:srgbClr val="ffffff"/>
                </a:solidFill>
                <a:latin typeface="Lucida Sans Unicode"/>
              </a:rPr>
              <a:t>as built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Lucida Sans Unicode"/>
              </a:rPr>
              <a:t>FUNDAMENTOS DA METODOLOGIA</a:t>
            </a:r>
            <a:br>
              <a:rPr sz="2800"/>
            </a:br>
            <a:r>
              <a:rPr b="1" lang="pt-BR" sz="2800" spc="-1" strike="noStrike">
                <a:solidFill>
                  <a:srgbClr val="00cc66"/>
                </a:solidFill>
                <a:latin typeface="Lucida Sans Unicode"/>
              </a:rPr>
              <a:t>conceito de perda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 Sans Unicode"/>
              </a:rPr>
              <a:t>CONSUMO REAL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85440" y="1600200"/>
            <a:ext cx="76201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 Sans Unicode"/>
              </a:rPr>
              <a:t>CONSUMO DE REFERÊ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67080" y="20574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Lucida Sans Unicode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76520" y="3505320"/>
            <a:ext cx="577512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4T10:56:01Z</dcterms:created>
  <dc:creator>Jpaliari</dc:creator>
  <dc:description/>
  <dc:language>en-US</dc:language>
  <cp:lastModifiedBy>Jpaliari</cp:lastModifiedBy>
  <dcterms:modified xsi:type="dcterms:W3CDTF">1998-08-26T12:56:39Z</dcterms:modified>
  <cp:revision>15</cp:revision>
  <dc:subject/>
  <dc:title>METODOLOGIA PARA COLETA E ANÁLISE DE INFORMAÇÕES SOBRE CONSUMOS E PERDAS DE MATERIAIS E COMPONENTES NOS CANTEIROS DE OBRAS</dc:title>
</cp:coreProperties>
</file>