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1DA-BC07-43A3-98F5-3DCD0483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14B-65C5-4302-828F-6924BFB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7BE-AAE2-4A3F-8920-4914CF83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444-4263-49E2-84D3-6F2EEFFE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3B9A-6EA7-472E-A34E-E12F946E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3A02-4192-4821-9C60-47E34632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69B-7C01-4375-BACB-DABE44A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1D0C-9E85-4638-8AD8-26F4DA02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8C33-9CA0-4F97-9653-FA4B850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90C0-42A3-4DC7-AB17-0675AA42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B5C-23A3-4F46-BA72-881F6B9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DC4-227E-4568-B2F1-4980307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CCB-B4B3-43A5-92C2-668B4E7D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7D84-3116-42BF-842A-CB3AD52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2E4-959B-4E3A-B4BE-A0A4E4CA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69F0-F431-479E-A839-D02483A3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E47-7602-4326-8BE4-DC2BB984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648-3199-47B9-BFFE-03C94E8E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7A7-01EF-412D-8B86-D41A48E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9CB-46FC-4B14-9143-E1EE9C9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580-A4FD-4DD5-B3C4-61E8CB0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0F4-1E27-4B02-9486-937BB00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B94-B307-4895-8E41-EAE4D3CC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197-AF05-4173-964D-84EE2AB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1412-BC75-460D-AEFD-9AD84C5C4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180-D7E5-4A20-A6FA-EA4767CB1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ETODOLOGIA PARA COLETA E ANÁLISE DE INFORMAÇÕES SOBRE CONSUMOS E PERDAS DE MATERIAIS E COMPONENTES NOS CANTEIROS DE OBR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José Carlos Pali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ient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Ubiraci Espinelli Lemes de Sou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400" spc="-1" strike="noStrike">
                <a:solidFill>
                  <a:srgbClr val="00cc66"/>
                </a:solidFill>
                <a:latin typeface="Lucida Sans Unicode"/>
              </a:rPr>
              <a:t>fluxograma dos processos e natureza das perda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881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dicadores de perdas/consum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386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present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51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L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1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mpresa/o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5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 etapas do fluxograma dos processos até a    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6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tapas do fluxograma dos processos pós-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NT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2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estoque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3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serviço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4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quantidade de material recebido/transferido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ntre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7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indicadores globais e par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LANILHA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3818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rocedimento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267440" cy="4065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70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27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ÂMBITO DO CANTEIRO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globa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parc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+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corrências anorm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ENTRE CANTEIROS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dentificar quais aspectos são significativos para a ocorrência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arcela incorporada x entul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estatísticas: média, mediana, mínimo, má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29320" cy="4800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ONTEX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Parte integrante de uma ampla pesquisa sobre a ques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esquisadores de 16 univer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12 estados brasil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Grupo de Ensino e Pesquisa em Tecnologia e Gestão da Produção (TG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lanejamento da pesquis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comprometimento d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ganização dos 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ntrole de saída dos mate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é-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colha d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incidir com início e fim dos serviços e/ou início e fim do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rticularidades (armação-aço, pintura-tintas, instalações elétricas-condu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 EMPREGAD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7524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2743200"/>
            <a:ext cx="3429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teste em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276720"/>
            <a:ext cx="1066680" cy="10666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ESTRUTURA DA DISSERTAÇÃO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1 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justific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2 Dimensão do conceito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nce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lassif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3 Principais pesquisas re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Metodologia empreg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rincipais resultados e conclus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4 Identificando e mensurando as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Fluxograma dos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5 Metodologia de coleta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strumentos de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leta, processamento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lanejamento da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6 Considerações fin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RONOGRAMA PARA A FINALIZ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23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JUSTIFICATIV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escassez recursos nat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deposição de entu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ênfase nos resultados e não na 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CAMINH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4382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Principais idéias/caminhos para o desenvolvimento da metodolog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4211640" cy="493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4341200">
            <a:off x="4000320" y="2628360"/>
            <a:ext cx="533520" cy="1523880"/>
          </a:xfrm>
          <a:custGeom>
            <a:avLst/>
            <a:gdLst>
              <a:gd name="textAreaLeft" fmla="*/ 71280 w 533520"/>
              <a:gd name="textAreaRight" fmla="*/ 462240 w 5335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AVALI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ocedimentos específicos de coleta, processamento e análise dos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visão analítica da determinação do referencial teó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flexibilização na adoção deste ref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ênfase em indicadores de co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ênfase em indicadores de perdas/consumos por servi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tudos pós-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dronização: materiais e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ATERIA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e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ed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produzido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us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roduzida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Blocos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 e tijo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arcial ou totalmente produzida fora do cant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elet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condu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tubos para instalações hidrossanitá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lacas cerâ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i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el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revestimento têx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sai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g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OBJETIV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Elaborar metodologia padronizada e sistematizada para a coleta e análise de informações sobre consumos e/ou perdas de materiais e compo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instru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rocedi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levantar indicadores globais e parci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identificação das etapas onde há a maior incidência de perdas, assim 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omo suas cau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aracterização de materiais e serviç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diretrizes para: processamento e anál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712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/natureza das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65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8600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Diferença percentual entre a quantidade recebida / transferida e a quantidade teoricamente prevista tomando-se como base o projeto </a:t>
            </a:r>
            <a:r>
              <a:rPr b="0" i="1" lang="pt-BR" sz="1800" spc="-1" strike="noStrike">
                <a:solidFill>
                  <a:srgbClr val="ffffff"/>
                </a:solidFill>
                <a:latin typeface="Lucida Sans Unicode"/>
              </a:rPr>
              <a:t>as buil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REA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DE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057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Lucida Sans Unicode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5775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0:56:01Z</dcterms:created>
  <dc:creator>Jpaliari</dc:creator>
  <dc:description/>
  <dc:language>en-US</dc:language>
  <cp:lastModifiedBy>Jpaliari</cp:lastModifiedBy>
  <dcterms:modified xsi:type="dcterms:W3CDTF">1998-08-26T12:56:39Z</dcterms:modified>
  <cp:revision>15</cp:revision>
  <dc:subject/>
  <dc:title>METODOLOGIA PARA COLETA E ANÁLISE DE INFORMAÇÕES SOBRE CONSUMOS E PERDAS DE MATERIAIS E COMPONENTES NOS CANTEIROS DE OBRAS</dc:title>
</cp:coreProperties>
</file>