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176-C1E6-484D-B381-8E0CB9D5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C36-AE2F-483B-A21F-8BA36A48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3D3-2781-457C-836D-06566513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AAA-1A32-46B4-9328-831AD39F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951D-731C-4A51-95F6-044B5F6D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61DE-E024-4585-8FB7-CA570650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58DA-BF88-4C6A-A7DF-6D43304F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164A-B26C-4CDE-9ACA-0B9D6D07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6262-33C3-4A24-A602-DD094542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AFA6-C714-4CD0-A539-83657F4D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DBC3-6F91-4B65-A2D4-DE18E61E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CF6-2835-4210-97DC-58F9FDB7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7823-1A06-4CD0-BEB2-D5777CF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332B-65CA-4BF5-BBCC-E68CB5BD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B4C9-1198-4008-BBA6-9DDE4A00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241B-E131-467D-B0C6-26FC4E96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E0A1-12DD-466C-9A5E-C5729E28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E8D-E610-4EAD-BDD5-7BA37B8A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B4B-9202-4E7F-A744-BE5F2F22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69E-ED69-43C3-B716-20DD63FF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AFC-3AF0-435C-AF45-BD1F9EDB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083-BC34-4E6E-90F4-95EF5604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C48-D5EE-4BF3-BBFE-5B03925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D19-FED6-4887-866E-938170C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A3C0-67E5-4F98-A2BA-1CA5FF423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0A70-73C8-425E-938A-1872A1173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METODOLOGIA PARA COLETA E ANÁLISE DE INFORMAÇÕES SOBRE CONSUMOS E PERDAS DE MATERIAIS E COMPONENTES NOS CANTEIROS DE OBR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José Carlos Pali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Orient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Ubiraci Espinelli Lemes de Sou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400" spc="-1" strike="noStrike">
                <a:solidFill>
                  <a:srgbClr val="00cc66"/>
                </a:solidFill>
                <a:latin typeface="Lucida Sans Unicode"/>
              </a:rPr>
              <a:t>fluxograma dos processos e natureza das perda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8812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dicadores de perdas/consum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63868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present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518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Lucida Sans Unicode"/>
              </a:rPr>
              <a:t>INFORMAÇÕES QUALIT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1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empresa/ob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5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 etapas do fluxograma dos processos até a     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6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etapas do fluxograma dos processos pós-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Lucida Sans Unicode"/>
              </a:rPr>
              <a:t>INFORMAÇÕES QUANTIT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2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medição dos estoques n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3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medição dos serviços n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4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quantidade de material recebido/transferido 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ntre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7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indicadores globais e parc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 - </a:t>
            </a:r>
            <a:r>
              <a:rPr b="1" lang="pt-BR" sz="2000" spc="-1" strike="noStrike">
                <a:solidFill>
                  <a:srgbClr val="00cc66"/>
                </a:solidFill>
                <a:latin typeface="Lucida Sans Unicode"/>
              </a:rPr>
              <a:t>PLANILHA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3818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 - </a:t>
            </a:r>
            <a:r>
              <a:rPr b="1" lang="pt-BR" sz="2000" spc="-1" strike="noStrike">
                <a:solidFill>
                  <a:srgbClr val="00cc66"/>
                </a:solidFill>
                <a:latin typeface="Lucida Sans Unicode"/>
              </a:rPr>
              <a:t>procedimento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267440" cy="4065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6702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rocessamento dos d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rocessamento dos d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772400" cy="3274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nálise dos result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Sans Unicode"/>
              </a:rPr>
              <a:t>ÂMBITO DO CANTEIRO DE OB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globa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parci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“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+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ocorrências anorm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Sans Unicode"/>
              </a:rPr>
              <a:t>ENTRE CANTEIROS DE OB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dentificar quais aspectos são significativos para a ocorrência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arcela incorporada x entul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estatísticas: média, mediana, mínimo, má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nálise dos result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729320" cy="4800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CONTEXT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Parte integrante de uma ampla pesquisa sobre a quest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esquisadores de 16 univers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12 estados brasilei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Grupo de Ensino e Pesquisa em Tecnologia e Gestão da Produção (TG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lanejamento da pesquis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comprometimento da empr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organização dos est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ontrole de saída dos mate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pré-t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escolha d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oincidir com início e fim dos serviços e/ou início e fim do esto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articularidades (armação-aço, pintura-tintas, instalações elétricas-condu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 EMPREGAD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675240" cy="289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181480" y="2743200"/>
            <a:ext cx="3429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Metodologia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teste em ca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metodologia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276720"/>
            <a:ext cx="1066680" cy="10666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ESTRUTURA DA DISSERTAÇÃO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1 Introdu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justifica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2 Dimensão do conceito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once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lassificaç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3 Principais pesquisas realiz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Metodologia empreg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rincipais resultados e conclus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4 Identificando e mensurando as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Fluxograma dos proces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5 Metodologia de coleta e anál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strumentos de col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oleta, processamento e anál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lanejamento da col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6 Considerações fin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CRONOGRAMA PARA A FINALIZ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239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JUSTIFICATIV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mpeti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escassez recursos natu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deposição de entul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ênfase nos resultados e não na 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CAMINH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243828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Principais idéias/caminhos para o desenvolvimento da metodolog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922400"/>
            <a:ext cx="4211640" cy="4935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4341200">
            <a:off x="4000320" y="2628360"/>
            <a:ext cx="533520" cy="1523880"/>
          </a:xfrm>
          <a:custGeom>
            <a:avLst/>
            <a:gdLst>
              <a:gd name="textAreaLeft" fmla="*/ 71280 w 533520"/>
              <a:gd name="textAreaRight" fmla="*/ 462240 w 53352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AVALI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procedimentos específicos de coleta, processamento e análise dos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visão analítica da determinação do referencial teó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flexibilização na adoção deste ref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ênfase em indicadores de consu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ênfase em indicadores de perdas/consumos por serviç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estudos pós-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adronização: materiais e serviç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MATERIA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e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ed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oncreto produzido em o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oncreto us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gamassa produzida em o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ç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Blocos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 e tijo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gamassa parcial ou totalmente produzida fora do cantei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elet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condut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tubos para instalações hidrossanitá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lacas cerâm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ti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tel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revestimento têx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saib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g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OBJETIV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Elaborar metodologia padronizada e sistematizada para a coleta e análise de informações sobre consumos e/ou perdas de materiais e compon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instrumentos de coleta 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rocedimentos de coleta 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levantar indicadores globais e parci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identificação das etapas onde há a maior incidência de perdas, assim </a:t>
            </a: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como suas caus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caracterização de materiais e serviç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diretrizes para: processamento e análi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4114800"/>
            <a:ext cx="7128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conceito de perdas/natureza das perd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4659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2286000"/>
            <a:ext cx="3657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Diferença percentual entre a quantidade recebida / transferida e a quantidade teoricamente prevista tomando-se como base o projeto </a:t>
            </a:r>
            <a:r>
              <a:rPr b="0" i="1" lang="pt-BR" sz="1800" spc="-1" strike="noStrike">
                <a:solidFill>
                  <a:srgbClr val="ffffff"/>
                </a:solidFill>
                <a:latin typeface="Lucida Sans Unicode"/>
              </a:rPr>
              <a:t>as built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conceito de perd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NSUMO REAL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NSUMO DE REFER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057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Lucida Sans Unicode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57751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0:56:01Z</dcterms:created>
  <dc:creator>Jpaliari</dc:creator>
  <dc:description/>
  <dc:language>en-US</dc:language>
  <cp:lastModifiedBy>Jpaliari</cp:lastModifiedBy>
  <dcterms:modified xsi:type="dcterms:W3CDTF">1998-08-26T12:56:39Z</dcterms:modified>
  <cp:revision>15</cp:revision>
  <dc:subject/>
  <dc:title>METODOLOGIA PARA COLETA E ANÁLISE DE INFORMAÇÕES SOBRE CONSUMOS E PERDAS DE MATERIAIS E COMPONENTES NOS CANTEIROS DE OBRAS</dc:title>
</cp:coreProperties>
</file>