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C29-1CFA-4FAA-8CCC-79DDFB00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F27-CB69-4483-BB03-AD647946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349-CFDB-44B5-A984-0C57AB4A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3B1-65FC-4CF3-8258-8663A398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2B98-8B92-4694-8BF6-4C34B162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1CBE-7062-4CD3-85DB-DC925812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2AFC-4FA9-4BEF-8D98-AE7B4648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DD53-CC8F-4FA0-8209-7ED6B83F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717C-88FE-4818-B6F1-D8886D9D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A1C2-37F9-49E1-9D05-0AC3BCA6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4506-9C1F-4D0C-A920-35CD843B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8CD-A376-4537-BB7F-5B7DA69A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0D48-CC65-4D48-8D52-80D0C568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4FC7-516F-4E99-970B-0867359A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B7BC-E6D2-4D0F-A296-86D0384E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8C88-FA30-43F4-A563-07A16223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BFC9-7EB8-4239-AFA8-1E31C259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B86-5577-4D2E-856A-3D1AED08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489-962D-4EC0-B755-13D9D5A5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C528-7576-498F-BD00-5B8239F5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026-AA09-48F5-A174-0381ABE6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287-15F3-464D-B2E1-E515D24D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4E8-FC2D-4458-BFA4-A5FC5EBC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8B1-6B6B-4459-A7D8-56A18E37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AD84-461F-4B39-92F0-7BDB343FA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C9D4-EFB7-4F72-B022-DC5B51317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METODOLOGIA PARA COLETA E ANÁLISE DE INFORMAÇÕES SOBRE CONSUMOS E PERDAS DE MATERIAIS E COMPONENTES NOS CANTEIROS DE OBR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José Carlos Pali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Orient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Ubiraci Espinelli Lemes de Sou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400" spc="-1" strike="noStrike">
                <a:solidFill>
                  <a:srgbClr val="00cc66"/>
                </a:solidFill>
                <a:latin typeface="Lucida Sans Unicode"/>
              </a:rPr>
              <a:t>fluxograma dos processos e natureza das perda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8812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dicadores de perdas/consum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63868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present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518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Lucida Sans Unicode"/>
              </a:rPr>
              <a:t>INFORMAÇÕES QUALIT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1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empresa/ob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5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 etapas do fluxograma dos processos até a     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6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etapas do fluxograma dos processos pós-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Lucida Sans Unicode"/>
              </a:rPr>
              <a:t>INFORMAÇÕES QUANTIT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2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medição dos estoques n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3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medição dos serviços n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4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quantidade de material recebido/transferido 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ntre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7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indicadores globais e parc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 - </a:t>
            </a:r>
            <a:r>
              <a:rPr b="1" lang="pt-BR" sz="2000" spc="-1" strike="noStrike">
                <a:solidFill>
                  <a:srgbClr val="00cc66"/>
                </a:solidFill>
                <a:latin typeface="Lucida Sans Unicode"/>
              </a:rPr>
              <a:t>PLANILHA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248520" cy="3818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 - </a:t>
            </a:r>
            <a:r>
              <a:rPr b="1" lang="pt-BR" sz="2000" spc="-1" strike="noStrike">
                <a:solidFill>
                  <a:srgbClr val="00cc66"/>
                </a:solidFill>
                <a:latin typeface="Lucida Sans Unicode"/>
              </a:rPr>
              <a:t>procedimento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267440" cy="4065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6702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rocessamento dos d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rocessamento dos d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772400" cy="3274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nálise dos result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Sans Unicode"/>
              </a:rPr>
              <a:t>ÂMBITO DO CANTEIRO DE OB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globa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parci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“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+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ocorrências anorm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Sans Unicode"/>
              </a:rPr>
              <a:t>ENTRE CANTEIROS DE OB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dentificar quais aspectos são significativos para a ocorrência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arcela incorporada x entul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estatísticas: média, mediana, mínimo, má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nálise dos result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729320" cy="4800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CONTEXT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Parte integrante de uma ampla pesquisa sobre a quest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esquisadores de 16 univers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12 estados brasilei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Grupo de Ensino e Pesquisa em Tecnologia e Gestão da Produção (TG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lanejamento da pesquis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comprometimento da empr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organização dos est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ontrole de saída dos mate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pré-t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escolha d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oincidir com início e fim dos serviços e/ou início e fim do esto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articularidades (armação-aço, pintura-tintas, instalações elétricas-condu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 EMPREGAD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675240" cy="289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181480" y="2743200"/>
            <a:ext cx="34290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Metodologia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teste em ca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metodologia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276720"/>
            <a:ext cx="1066680" cy="10666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ESTRUTURA DA DISSERTAÇÃO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1 Introdu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justifica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2 Dimensão do conceito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once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lassificaç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3 Principais pesquisas realiz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Metodologia empreg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rincipais resultados e conclus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4 Identificando e mensurando as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Fluxograma dos proces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5 Metodologia de coleta e anál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strumentos de col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oleta, processamento e anál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lanejamento da col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6 Considerações fin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CRONOGRAMA PARA A FINALIZ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239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JUSTIFICATIV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mpeti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escassez recursos natu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deposição de entul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ênfase nos resultados e não na 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CAMINH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243828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Principais idéias/caminhos para o desenvolvimento da metodolog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922400"/>
            <a:ext cx="4211640" cy="4935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4341200">
            <a:off x="4000320" y="2628360"/>
            <a:ext cx="533520" cy="1523880"/>
          </a:xfrm>
          <a:custGeom>
            <a:avLst/>
            <a:gdLst>
              <a:gd name="textAreaLeft" fmla="*/ 71280 w 533520"/>
              <a:gd name="textAreaRight" fmla="*/ 462240 w 53352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AVALI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procedimentos específicos de coleta, processamento e análise dos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visão analítica da determinação do referencial teó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flexibilização na adoção deste refere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ênfase em indicadores de consu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ênfase em indicadores de perdas/consumos por serviç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estudos pós-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adronização: materiais e serviç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MATERIAI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e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ed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oncreto produzido em o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oncreto us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gamassa produzida em o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ç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Blocos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 e tijo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gamassa parcial ou totalmente produzida fora do cantei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eletrod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condut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tubos para instalações hidrossanitá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lacas cerâm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ti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tel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revestimento têx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saib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g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OBJETIV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Elaborar metodologia padronizada e sistematizada para a coleta e análise de informações sobre consumos e/ou perdas de materiais e compon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instrumentos de coleta 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rocedimentos de coleta 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levantar indicadores globais e parci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identificação das etapas onde há a maior incidência de perdas, assim </a:t>
            </a: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como suas caus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caracterização de materiais e serviç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diretrizes para: processamento e análi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4114800"/>
            <a:ext cx="7128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conceito de perdas/natureza das perd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4659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2286000"/>
            <a:ext cx="3657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Diferença percentual entre a quantidade recebida / transferida e a quantidade teoricamente prevista tomando-se como base o projeto </a:t>
            </a:r>
            <a:r>
              <a:rPr b="0" i="1" lang="pt-BR" sz="1800" spc="-1" strike="noStrike">
                <a:solidFill>
                  <a:srgbClr val="ffffff"/>
                </a:solidFill>
                <a:latin typeface="Lucida Sans Unicode"/>
              </a:rPr>
              <a:t>as built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conceito de perd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NSUMO REAL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NSUMO DE REFER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057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Lucida Sans Unicode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57751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0:56:01Z</dcterms:created>
  <dc:creator>Jpaliari</dc:creator>
  <dc:description/>
  <dc:language>en-US</dc:language>
  <cp:lastModifiedBy>Jpaliari</cp:lastModifiedBy>
  <dcterms:modified xsi:type="dcterms:W3CDTF">1998-08-26T12:56:39Z</dcterms:modified>
  <cp:revision>15</cp:revision>
  <dc:subject/>
  <dc:title>METODOLOGIA PARA COLETA E ANÁLISE DE INFORMAÇÕES SOBRE CONSUMOS E PERDAS DE MATERIAIS E COMPONENTES NOS CANTEIROS DE OBRAS</dc:title>
</cp:coreProperties>
</file>